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6036-40A0-4989-B51B-CB5F8DC37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0D26-FC35-4D30-9FF0-2C237654C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431B2A-794B-4E43-955A-2FCB94BF7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0429A7-A68E-4280-A8FA-43BC35EFD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C06079-1897-4026-BDF2-8A8C6276B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867C18-FF6B-465A-A98A-B20A68785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5B16DD-960A-4CFF-8E27-0FF195E0B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E19322-9DAD-4328-ABAA-C1CFF367C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582A25-FC79-465E-931D-A8FAB1892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27C1F6-D5A2-4E4B-A3EE-7DF093CA4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177D1F-61B8-43B4-AFB0-B5DC73849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09B8AE-6111-474C-A8D5-A88155529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54DD-9119-4047-A98A-9C6DFC3BB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206784-4665-4560-B3AE-769C1AE39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8823B4-2D02-465B-966E-5877FDB67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AF0B98-D1CB-46C8-8919-A3BBD960F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D4DD01-7171-4643-8C64-93BEF3533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D5FF11-E190-4879-B505-910AE0291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820474-B3FE-4EC7-B29E-44A622A01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0A3851-E8EE-4427-B7CF-2FB2F98F5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AE0DE5-1B08-40EE-9A3B-C0141A918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DFD757-8DA5-4EBD-B12D-62E96E89A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4D20E8-B440-437F-9271-9B2C99B3C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E782-0994-4DCC-818C-B959C7BAA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3F7421-8F6F-4786-908B-C810BCC16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BDA8A7-2E4E-43D7-9E07-57E22CC7B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3E5E7C-79C9-4001-AD7E-7AFFD0135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8AEECE-F58E-4454-82FA-1485E82DD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054214-805B-46E5-A7A0-95B8A7466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ECF6CD-4296-4C44-83E2-36D3DFFAD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156D17-BECA-4BE0-A50B-3E06F0277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210D32-DE70-4E3C-B6A1-55E6BC73C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B403A2-B184-4AF9-B15E-53C617D52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B9A0ED-922F-4AA8-AD1E-4D16701D1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DE66D-1FA0-4F59-96E4-B4759C0EF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3E46BF-5134-490B-AAED-41CE408AB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3EB6DE-8D9D-47A9-896D-A0FADA8DD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85674B-AF69-4615-BCDD-2B6214EE4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EAEBB1-E7C2-48CA-907F-4B8F293AF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011A2D-48D9-41E6-A466-F5E67BDA7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AF13D1-BA74-41C3-9DBF-BEB0B6ED9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A6953E-3F1D-486F-BF6C-754181DA1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567BEA-B18A-4392-AF1C-10E5ABFA0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211B7F-9122-45CB-BDF5-0EB17A793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681BF8-8DB1-4642-B8A7-1DC054240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EE331-258E-4F0D-B5DC-596DEA0E9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831A8F-9661-4324-AC75-9BEF1507B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44A25C-92FD-492C-8811-516AD4F7B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DEBC9B-7B61-4672-B25B-A37C50827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7D52AA-B26F-41F6-AA89-07CDB17DC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1A83F6-E2DC-4CBD-9583-029C87AF7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9411C-B1D8-4A15-B246-3557D2241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9C53F-5DE8-4474-BD80-3F8443715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0D649-BD4A-486B-8947-9BBC95FC7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91F5C-ECFA-42C9-9D17-3CB92C8D6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6DBF3-6293-4B76-8120-064A87E18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D2E7-7A28-4482-8DFB-74C656D8D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9675C-6887-4BF6-A4AD-396B3F4AE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33850-01DB-46EF-9CB3-1D7CB6ED4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F279F-C1E4-43B3-B1B0-59DECC179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C38B5-809E-48A8-A95F-237DC48AC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1CE8E-356B-4CC4-9DF6-143C86C2A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D5D04F-F672-40D7-8985-50AC993EF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E05AA3-5E47-4A9D-A9B3-90CAC11D9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2459B9-9CC2-4E0E-95EE-A76482A52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2F9B91-E8D4-48EF-8842-6E06EA00C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37F0C3-60D1-4125-9DFD-B3E82B459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95D4-FD1F-4413-ADC9-192156C4C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61E821-C5B8-4F10-B800-87B2A13F4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7C8E61-6967-477E-8840-F4B2D5461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7301BB-24F4-4F91-B81A-6DECEC4E7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B380DB-B9F8-4FA7-9117-E9956FBAA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5E3150-6382-4F67-99F2-CF0E85018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49A752-E7C7-499F-90D2-7A9C905B6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AA78A2-A925-476C-918A-F3BF27A89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76D96D-024E-40C2-888A-6B3758D5A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AA5DE5-73E9-474D-883E-42A0F0F1F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0C757C-F7BE-4F40-9E43-F12F5944E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03A7-FCDB-4EDA-941E-70F0EFD5A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EF5328-8ED3-48C4-8599-804DF6E25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CB40A6-4BC7-4B8F-AC4E-79CF421D4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A028B9-276E-48C9-B2F4-76DC2E2BB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F4B9FF-AC34-49FD-8747-A15204996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E4CCFB-1B9E-4EB9-82DB-EE68A6DC9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CDCBFE-C33C-43D6-A897-66CD96647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7D7191-4183-48AF-8290-07939A576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145133-F028-41FC-A1DF-84F934665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1FD298-DCE8-45DE-BE93-640A87312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FDFB68-9B16-41DA-A676-E06ADB77D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219C-DD58-48B5-8088-0E76B9E21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1A6E95-4610-42FC-9D36-8DEF03BD3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510480-E68D-4C53-9507-635A9414B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924453-AF3C-4D85-8C8E-896386178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51CBFC-6E12-4C11-8B31-BBAA34ADC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7CF80B-24F1-4C51-9D21-25409FF93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D6FD23-EAE9-4873-A60C-21D1F74CB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A8764B-74B5-47D4-9DA6-79B04F626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FA8FB0-4263-45CB-96BC-0A2C4C4D3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03A90A-65AA-4BE2-93C8-E8D744B40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E25D09-78D9-458A-83DD-23FB1D7BF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9832-233A-4DBC-9158-796416A50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2F77EF-5338-4950-9475-26A3ACAC7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A757BC-D6DE-4BBF-80F5-3A04AD18C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06E83C-B739-4C37-865F-C707EFD57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0075E3-2FDB-46EB-9588-215B628F6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68A038-8FD7-43D3-849A-D3C66701B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757A47-1C0D-404E-AA6F-AE0DDBC39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5A6D08-277A-4E01-9902-EFA5FBAEF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A07DB0-E6FF-4F39-8346-64800EACB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2291B3-8C37-4CEB-90A3-52D1159D2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D3B69E-4D2F-4225-A953-50D9F067B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1986-6B45-4FC2-BA71-A655FA473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5A2C1B-CB99-4751-965A-33A3456C4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035663-9D6E-44CE-B9FF-716051F66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5DBAB9-FBD0-4783-A8D3-6608ED8A2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D69DE2-264E-49B9-B388-556504876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87F58D-0BA3-4C9F-B2AA-BC1765FF8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12D394-90E0-4B67-9A5E-5E8EE4DFA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8149CE-25C0-4DA8-A01D-BFC3C287C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B48282-4717-4218-B4C7-6EB0C8259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2F33AD-0B2C-4095-8E58-8C49B7090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F68C60-8939-4D3D-8198-1BA6F6D98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5230-8E97-4CA2-9730-D27495AF8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DEFDE6-426A-459A-9EFC-0C843B229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7AC3C7-1842-4CB6-9425-8D74DB7DD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3370D2-E8F4-4E5A-B4B5-2ED561E6F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149A09-B023-4C91-AECF-03FC7A004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39F240-68D2-43EC-80B0-261277072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22ADDB-F5AE-475C-8229-08DFE477F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25B360-9A46-479E-B981-AC6E473F6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C0840D-EF7A-456B-A4EB-1953ACA48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388CCC-5CB6-4F17-BF43-EDDC96546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F6D0C8-6331-43DA-B59B-F4102C405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BEF2-6C7A-4B3B-B47B-505E0DF5A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AF20FB-E4D7-450E-B787-847258A04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46C215-5F37-4381-A48C-E3E9F1171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FCC647-861A-4A6D-9789-25C5722AD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26073C-5D9C-4D9A-A93A-9CFBDA65D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B299B6-C738-4E5E-9589-B7D3D7FF1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22F78D-EBAF-4491-A080-7F4ACE5A9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B0F77C-F97D-423F-B818-B6CA4F41C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7FCC0F-27F8-4DDC-A688-25860B045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1BFABA-985F-4311-8BB1-C96100C4B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B36D3D-411A-4CAF-82BF-3BF103FC0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12ACD-A620-49BE-BB6B-8F52851F56CA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Gerade Verbindung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Gerade Verbindung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Gleichschenkliges Dreieck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Gerade Verbindung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7" name="Gleichschenkliges Dreieck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8" name="Rechteck 14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8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9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30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11ACC-99D7-49EB-993D-29B6A5F7425F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Gerade Verbindung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1" name="Gerade Verbindung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2" name="Gleichschenkliges Dreieck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3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3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3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D2AC0-16C1-40B9-BE80-4399036103D1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Gerade Verbindung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5" name="Gleichschenkliges Dreieck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6" name="Gerade Verbindung 14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 type="dt" idx="34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 type="ftr" idx="35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 type="sldNum" idx="36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35B5E-3A70-452B-9561-18A6524E0ED0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hteck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Rechteck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Rechteck 14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Rechteck 15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504F7-CACE-498A-B621-4E417B8FBD28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Gerade Verbindung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Gerade Verbindung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Gleichschenkliges Dreieck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123DB-62AF-4E53-B434-1A82256D9F8C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hteck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Rechteck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9AEF5-9380-4C17-9B6E-4104171E3250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Gerade Verbindung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7" name="Gerade Verbindung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Gleichschenkliges Dreieck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595EE-E316-4FEF-9FE0-3DBB50EF7FAC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Gerade Verbindung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Gerade Verbindung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Gleichschenkliges Dreieck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36E56-487C-41B6-85A9-A8997B1F15D3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Gerade Verbindung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Gerade Verbindung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Gleichschenkliges Dreieck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Gleichschenkliges Dreieck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4111B-6F42-4CA1-BC17-29541A5D3EE0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Gerade Verbindung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Gleichschenkliges Dreieck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3D017-4F19-496B-937F-4C34A0860E00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Gerade Verbindung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Gerade Verbindung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Gleichschenkliges Dreieck 14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25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26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27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8D683-3C3E-49BD-927A-8699907EEB89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30T11:22:15Z</dcterms:created>
  <dc:creator>Bastian Klasvogt</dc:creator>
  <dc:description/>
  <dc:language>en-US</dc:language>
  <cp:lastModifiedBy>Bastian Klasvogt</cp:lastModifiedBy>
  <dcterms:modified xsi:type="dcterms:W3CDTF">2007-11-30T11:23:31Z</dcterms:modified>
  <cp:revision>2</cp:revision>
  <dc:subject/>
  <dc:title>Folie 1</dc:title>
</cp:coreProperties>
</file>