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A95F2-5B42-4CA4-9F14-379B5DE968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4DEC0-B57D-493E-B4DF-19A1CA1C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F47FA-321D-4B80-B5D9-3DB91108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841D5-AF5B-4C77-9154-D607688E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44D55-2C16-45B1-87BA-16BBE733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A7350-A938-44E1-AAD3-B60EAD2A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F774F-486C-4877-98D1-601FEAAA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A2703-7448-4EB1-8F29-7F3993E9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0D878-CFF4-4229-B670-913CB8A8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6AE7B-F04C-45D6-B685-AAC4B7E8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A50A0-1F0B-4538-AB16-73FB94CC71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3CEC0-3B4E-4093-AF4F-8B59B351AF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394D-C636-4A79-97DC-E24F27A7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85D345-5A36-4B53-B425-5E248A87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57944-EFC9-4196-9991-12543434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D23066-3BDC-4FE7-A537-C88293CA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C16A8F-1448-4B7E-8969-5A805E22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BEB7C-B2B9-44D0-9A82-7AA2A90B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EB7C64-3F31-4394-A585-8224783A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2460C4-859B-4B85-96E3-5C002CAA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4B56E1-367B-4ABA-94E1-F840CC04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657501-6410-42AB-A0AA-60FEDFEF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481DC-90B2-4D46-B24B-85A1C3CD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1F679-9F77-42C3-A990-0C31BD2EF5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785003-FC60-435E-9AD3-2242B0316A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5D22C5-9CC7-4A8F-B7F3-489A521333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E888BD-4569-45A4-B639-F08BAF9F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ED26F1-882E-4BAB-914A-E9A3CB71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23A929-9320-45C0-8F39-221CDED2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101C0A-0AB9-4028-8F25-45590D00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74EADD-7919-4A72-983F-2C5185A5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E624FD-CC4B-4C50-9339-58F75EC3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4FEA68-D98D-4A95-9DB4-E88C84E3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FA2BBC-1B4C-4A49-A7B2-42FAFD33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5F451-E311-4CB3-A6C2-EDC91F1156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77E55F-744A-4526-82C3-0508FA8B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EC30DE-8F7A-4615-A2E8-E9290A2F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84881E-6517-4DD0-863A-74C1329992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3418F-14A3-4BEA-8BEE-D21419D09E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89856-3167-4E3C-88F3-FC539314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2D67B-59DB-4BB3-AFA7-064A8086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57E0-232A-4308-8480-70CC571D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ACDF8-E91B-4842-893D-87048979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F0E37-55F2-4BBA-B6A6-6E4626AF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C4DC9-9D03-4A18-94B2-5096FBD5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203D5-D46A-44A1-AC75-DBDFD6C5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D4212-A13F-42AA-86C6-F6F15134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50C1B-B90E-4579-85B7-BA7296F1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82481-375C-4755-9830-7F46548F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8B1A2-96A7-475E-9967-42DE5E78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68D0D-1B43-4418-97DF-FC4C9BC01E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CF1D9-8469-4E72-9C0B-65497358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1B5AD-9603-41D3-AEB2-A2FC528C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BD379-E39C-43B9-8109-F2A8C947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B2E21-D959-488F-9CD6-378F00DF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E6AEE-CE9C-49DD-8480-C9D04749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EE03-CB84-4377-BB6A-F22943C4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2B22A-225C-477C-BF40-D963EFCA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C9371-1451-45C0-AE72-E4726C3E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46AD2-3323-4634-A397-9D48E315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3FE22-C72A-41E4-8777-30C22905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D6E61-C4EE-4B5A-A849-9656890E79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3B6B-B8B5-4D88-BA58-7D1F931B49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4375-9B0F-4277-9817-AD7CCABF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1D87-25E5-4CAD-AAD5-BDE9E3E0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A417-7785-4E9D-9924-37B7D7CA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5EE7-8CA9-4EC6-B650-1C0A349C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DA8E2-9B96-4C1B-AB33-43D2EA66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154E-F10A-42C1-82C4-F02F26A0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FDA9-CB9B-4832-BF84-D8D1F684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D1FB-4AFB-4398-B030-99C99239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12FC-064D-4E90-8661-BC74121B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C936-009B-47B6-A440-E7901EE5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057D-C7ED-478D-837E-61CF6869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4726-D3D4-4A84-B8ED-388043A0AB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346F4-AEAF-4DE9-84CC-D7136EA115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BEB44-7DEF-4A0A-9E0C-2FEF1731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E2639-32A6-4262-A13D-43E0AEF9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FAB8-8A49-4774-9425-C42B2BB9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38147-E269-4BF6-A010-41B64789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9E8DB-30A2-4606-83A5-602EB9E3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35210-0B28-4137-B276-1EC3C764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5A412-B390-450F-8978-6993DBD7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39872-E547-4422-A184-13F6CA34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8B6C0-1739-4803-9302-6188765E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62158-33E7-4E6B-BF3A-81F679CD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9B6DE-D561-4B7E-A4D2-C6FB21D1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59ED8-9115-4912-8666-F704563C73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9A3341-AC07-4430-B3E0-B202EADA73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265E0-4C7F-4E19-A30C-D2561412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5ABA0F-60B1-4AFE-AD19-12665E44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AE488-F0D2-4B1F-A8C7-32CC5FA6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7C0781-831A-4986-99BB-188BF2F9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6F7C6-BF00-4181-9926-D62E43F5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002384-AFCE-42F1-B3B7-772C0FA9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92F426-9BBC-48B0-908A-F7443EB4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415669-35A3-44BB-8542-BE5A0BB6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3B26EA-2E83-47DE-B8CD-F2DA1E58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65554C-93D5-4314-8273-20D7E42E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33620C-492F-4D99-A66D-B4419243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E174-8FCE-456C-BF00-D16AB8D3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4660C6-C914-43F0-A1AF-ECCC7F9E53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DEB46-03E9-4E7B-A5DF-C7F649BE42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06C35-5DE0-4FEE-B3F2-311E0B82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3D4B-94CD-47E7-9634-679D335E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679A9-5A46-4ACF-A829-C87DB037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4A76-4BB7-430E-AFA9-EC2438AA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3AA5B-C8EB-4170-ABDC-C9A0848F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B3AE7-6163-4958-8832-959DC244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A1335-A759-48B6-963A-5B68A3A2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E92CD-9F7D-42A8-83B4-41B3F6EF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0430E-4D74-4890-8ECA-E0844D5F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60DDD-94AF-474D-8603-DB49496B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4663D-E016-4CDD-838C-DFB83585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6A98-E828-4273-95EE-22288875D6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E553B-D572-4C8D-AD7F-6DFC421F56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13FFA-261C-4078-802D-66C0AC59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C1DCB9-2A88-4A35-8C6C-04093CEA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642C8-5334-4CDE-974A-6D440662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6C6C4-4A01-4C6C-B03C-246FD560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18A34-3CC9-49D0-B1A9-04E60D4D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E0946-7F53-4C4A-A634-7D79F42A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13A9-6A90-474B-A7AB-FFDEDA62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2ABEA-72FC-418D-9E5B-A1842BD2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3BBDA-E0F0-4194-B50D-4C94E793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2AC56-4160-47E8-81DC-2A894A04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C95E4-1E55-48B1-90FC-41B0A182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F59EB-366B-44D2-8897-7BC772DB35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8B0484-0390-466A-9B59-697EB351CF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A17C34-294D-45D5-93EB-145F8A8D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F01C02-93E1-4ACD-9F4E-96108211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767C66-0C8D-41BF-AA47-0DED359C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C904FA-FBC7-4C1C-8C97-47069483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D20FB-C273-406F-B39C-B16E1FD8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E69E6C-07EA-4E97-9A48-0D3CF18C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4689CA-44AA-435B-A992-2556C91C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A70CA8-EC44-4869-BD26-497409E2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26D0FA-966A-4897-8662-BC7FB98E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7B1195-A116-40B7-BFA2-0E73665A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1EF36F-6DC0-4E56-892A-971EE362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BB8ABF-2278-4A1C-A5DB-FA429792CF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89E41-56B6-4607-8668-2E53265741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2BEEB-271C-4899-81B2-FDABC52E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35BA7-FED0-47B5-8D8B-6F2AC12D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6120" indent="-27324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080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548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898720" y="6356520"/>
            <a:ext cx="3505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0A047B-56C5-412E-8A19-874E04C8D21E}" type="slidenum"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6120" indent="-27324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080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548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9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dde9ec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8720" y="6356520"/>
            <a:ext cx="3505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0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3D746A-A285-4BB2-A675-DE6005AF0990}" type="slidenum">
              <a:rPr b="0" lang="en-GB" sz="1400" spc="-1" strike="noStrike">
                <a:solidFill>
                  <a:srgbClr val="dde9ec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6120" indent="-27324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080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548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1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98720" y="6356520"/>
            <a:ext cx="3505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2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0A89C4-CF6F-4F6A-B228-600DA798C2A0}" type="slidenum"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"/>
          <p:cNvSpPr/>
          <p:nvPr/>
        </p:nvSpPr>
        <p:spPr>
          <a:xfrm>
            <a:off x="6556320" y="276120"/>
            <a:ext cx="180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6120" indent="-27324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080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548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3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98720" y="6356520"/>
            <a:ext cx="3505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4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79592F-2BB7-46C5-9C8C-AFA499550B58}" type="slidenum"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6120" indent="-27324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080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548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400800" y="6354720"/>
            <a:ext cx="228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8720" y="6354720"/>
            <a:ext cx="347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1216080" y="6354720"/>
            <a:ext cx="121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16E71A1-0148-489C-911F-BF1F22821228}" type="slidenum"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6120" indent="-27324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080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548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8720" y="6356520"/>
            <a:ext cx="3505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68FF292-8B1E-42A1-B203-DDE3221FF4A9}" type="slidenum"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6120" indent="-27324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080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548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400800" y="6354720"/>
            <a:ext cx="228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dde9ec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8720" y="6354720"/>
            <a:ext cx="347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8"/>
          </p:nvPr>
        </p:nvSpPr>
        <p:spPr>
          <a:xfrm>
            <a:off x="1069920" y="6354720"/>
            <a:ext cx="151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11AB15B-BA56-4DAC-92D6-9DDFE0374EF2}" type="slidenum">
              <a:rPr b="0" lang="en-GB" sz="1400" spc="-1" strike="noStrike">
                <a:solidFill>
                  <a:srgbClr val="dde9ec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6120" indent="-27324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080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548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8720" y="6356520"/>
            <a:ext cx="3505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0F0D0B-18FB-487D-BFC6-A56D02881578}" type="slidenum"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6120" indent="-27324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080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548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8720" y="6356520"/>
            <a:ext cx="3505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D0DE8B-59D7-4536-BEAE-2EA65358C7A7}" type="slidenum"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6120" indent="-27324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080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548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8720" y="6356520"/>
            <a:ext cx="3505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4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692D705-297F-4FBE-9C22-652D631207BD}" type="slidenum"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6120" indent="-27324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080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548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5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8720" y="6356520"/>
            <a:ext cx="3505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6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EED3D70-FC1D-4EA4-BE96-27996BE17B53}" type="slidenum"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"/>
          <p:cNvSpPr/>
          <p:nvPr/>
        </p:nvSpPr>
        <p:spPr>
          <a:xfrm>
            <a:off x="6178680" y="306360"/>
            <a:ext cx="144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6120" indent="-27324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080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548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7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8720" y="6356520"/>
            <a:ext cx="3505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18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0F22D5-1FB9-4E75-B4C1-CF543C04E689}" type="slidenum">
              <a:rPr b="0" lang="en-GB" sz="1400" spc="-1" strike="noStrike">
                <a:solidFill>
                  <a:srgbClr val="464653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9656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Geokodieru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"/>
          <p:cNvSpPr/>
          <p:nvPr/>
        </p:nvSpPr>
        <p:spPr>
          <a:xfrm>
            <a:off x="1006560" y="1295280"/>
            <a:ext cx="2633400" cy="11001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96633"/>
              </a:gs>
            </a:gsLst>
            <a:lin ang="2700000"/>
          </a:gra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Schifferstr. 1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76189 Karlsruh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Deutschlan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/>
          <p:nvPr/>
        </p:nvSpPr>
        <p:spPr>
          <a:xfrm>
            <a:off x="5407200" y="1295280"/>
            <a:ext cx="2678040" cy="703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96633"/>
              </a:gs>
            </a:gsLst>
            <a:lin ang="2700000"/>
          </a:gra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27000" bIns="27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Dort steht e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Drei-Familienha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09760" y="2514600"/>
            <a:ext cx="3757320" cy="3187800"/>
            <a:chOff x="509760" y="2514600"/>
            <a:chExt cx="3757320" cy="3187800"/>
          </a:xfrm>
        </p:grpSpPr>
        <p:pic>
          <p:nvPicPr>
            <p:cNvPr id="532" name="" descr=""/>
            <p:cNvPicPr/>
            <p:nvPr/>
          </p:nvPicPr>
          <p:blipFill>
            <a:blip r:embed="rId1"/>
            <a:stretch/>
          </p:blipFill>
          <p:spPr>
            <a:xfrm>
              <a:off x="509760" y="3363840"/>
              <a:ext cx="3757320" cy="23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1963800" y="2514600"/>
              <a:ext cx="581040" cy="684360"/>
            </a:xfrm>
            <a:prstGeom prst="downArrow">
              <a:avLst>
                <a:gd name="adj1" fmla="val 50000"/>
                <a:gd name="adj2" fmla="val 2944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113600" y="4707000"/>
            <a:ext cx="1577880" cy="1517760"/>
            <a:chOff x="7113600" y="4707000"/>
            <a:chExt cx="1577880" cy="1517760"/>
          </a:xfrm>
        </p:grpSpPr>
        <p:sp>
          <p:nvSpPr>
            <p:cNvPr id="535" name=""/>
            <p:cNvSpPr/>
            <p:nvPr/>
          </p:nvSpPr>
          <p:spPr>
            <a:xfrm>
              <a:off x="7977240" y="5286240"/>
              <a:ext cx="714240" cy="758880"/>
            </a:xfrm>
            <a:prstGeom prst="flowChartMagneticDisk">
              <a:avLst/>
            </a:prstGeom>
            <a:gradFill rotWithShape="0">
              <a:gsLst>
                <a:gs pos="0">
                  <a:srgbClr val="6b0094"/>
                </a:gs>
                <a:gs pos="100000">
                  <a:srgbClr val="00ff00"/>
                </a:gs>
              </a:gsLst>
              <a:lin ang="4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13600" y="4707000"/>
              <a:ext cx="996840" cy="1517760"/>
            </a:xfrm>
            <a:prstGeom prst="flowChartMagneticDisk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ill Sans MT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319800" y="2516040"/>
            <a:ext cx="581040" cy="684360"/>
          </a:xfrm>
          <a:prstGeom prst="downArrow">
            <a:avLst>
              <a:gd name="adj1" fmla="val 50000"/>
              <a:gd name="adj2" fmla="val 2944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375080" y="3259080"/>
            <a:ext cx="4103640" cy="1755720"/>
            <a:chOff x="4375080" y="3259080"/>
            <a:chExt cx="4103640" cy="1755720"/>
          </a:xfrm>
        </p:grpSpPr>
        <p:sp>
          <p:nvSpPr>
            <p:cNvPr id="539" name=""/>
            <p:cNvSpPr/>
            <p:nvPr/>
          </p:nvSpPr>
          <p:spPr>
            <a:xfrm>
              <a:off x="4375080" y="3809880"/>
              <a:ext cx="758880" cy="120492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98" y="21"/>
                  </a:moveTo>
                  <a:cubicBezTo>
                    <a:pt x="64" y="21"/>
                    <a:pt x="36" y="50"/>
                    <a:pt x="36" y="84"/>
                  </a:cubicBezTo>
                  <a:cubicBezTo>
                    <a:pt x="36" y="102"/>
                    <a:pt x="22" y="116"/>
                    <a:pt x="4" y="116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4" y="147"/>
                    <a:pt x="4" y="147"/>
                    <a:pt x="4" y="147"/>
                  </a:cubicBezTo>
                  <a:cubicBezTo>
                    <a:pt x="39" y="147"/>
                    <a:pt x="67" y="119"/>
                    <a:pt x="67" y="84"/>
                  </a:cubicBezTo>
                  <a:cubicBezTo>
                    <a:pt x="67" y="67"/>
                    <a:pt x="81" y="53"/>
                    <a:pt x="98" y="53"/>
                  </a:cubicBezTo>
                  <a:cubicBezTo>
                    <a:pt x="103" y="53"/>
                    <a:pt x="103" y="53"/>
                    <a:pt x="103" y="53"/>
                  </a:cubicBezTo>
                  <a:cubicBezTo>
                    <a:pt x="103" y="73"/>
                    <a:pt x="103" y="73"/>
                    <a:pt x="103" y="73"/>
                  </a:cubicBezTo>
                  <a:cubicBezTo>
                    <a:pt x="142" y="37"/>
                    <a:pt x="142" y="37"/>
                    <a:pt x="142" y="37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03" y="21"/>
                    <a:pt x="103" y="21"/>
                    <a:pt x="103" y="21"/>
                  </a:cubicBezTo>
                  <a:lnTo>
                    <a:pt x="98" y="2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505480" y="3259080"/>
              <a:ext cx="2973240" cy="1484280"/>
              <a:chOff x="5505480" y="3259080"/>
              <a:chExt cx="2973240" cy="1484280"/>
            </a:xfrm>
          </p:grpSpPr>
          <p:sp>
            <p:nvSpPr>
              <p:cNvPr id="541" name=""/>
              <p:cNvSpPr/>
              <p:nvPr/>
            </p:nvSpPr>
            <p:spPr>
              <a:xfrm>
                <a:off x="5505480" y="3259080"/>
                <a:ext cx="2827440" cy="133992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Gill Sans MT"/>
                  </a:rPr>
                  <a:t>I'm a map ...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78560" y="3332160"/>
                <a:ext cx="2827080" cy="133992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Gill Sans MT"/>
                  </a:rPr>
                  <a:t>I'm a map ...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651640" y="3403440"/>
                <a:ext cx="2827080" cy="133992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Gill Sans MT"/>
                  </a:rPr>
                  <a:t>I'm a map ...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stian Klasvogt</dc:creator>
  <dc:description/>
  <dc:language>en-US</dc:language>
  <cp:lastModifiedBy>Dennis Schulmeister</cp:lastModifiedBy>
  <cp:revision>0</cp:revision>
  <dc:subject/>
  <dc:title>Folie 1</dc:title>
</cp:coreProperties>
</file>